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ACBC-DA46-4ACA-B264-A7F63EF38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2BF9-D04B-495B-9BD7-7943D6FA1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CCB2-F2B5-46A9-A220-908B2F1EC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3B8E-66B5-483F-BAF8-C13956CA2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F1C9-BF36-496E-A76E-12EC63132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CF58-EF58-49D9-96E7-B68667C56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A04F-6E1E-43E5-B23A-6D18E2EEB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9F66-75E7-42AA-B7DA-730B11E7D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D713-8AB4-49CB-8EBB-E35A36D44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ABB2-392D-469B-B25D-034F7A8B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1391-4DA6-4B8F-B028-7DEA4F3D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41E9-CEB3-4B16-9054-20A6C040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45D75-6BC4-4DBD-87C2-A30C57B4B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image" Target="../media/image2.jpeg"/><Relationship Id="rId17" Type="http://schemas.openxmlformats.org/officeDocument/2006/relationships/image" Target="../media/image2.jpeg"/><Relationship Id="rId18" Type="http://schemas.openxmlformats.org/officeDocument/2006/relationships/image" Target="../media/image2.jpeg"/><Relationship Id="rId19" Type="http://schemas.openxmlformats.org/officeDocument/2006/relationships/image" Target="../media/image2.jpeg"/><Relationship Id="rId20" Type="http://schemas.openxmlformats.org/officeDocument/2006/relationships/image" Target="../media/image2.jpeg"/><Relationship Id="rId21" Type="http://schemas.openxmlformats.org/officeDocument/2006/relationships/image" Target="../media/image2.jpeg"/><Relationship Id="rId22" Type="http://schemas.openxmlformats.org/officeDocument/2006/relationships/image" Target="../media/image2.jpeg"/><Relationship Id="rId23" Type="http://schemas.openxmlformats.org/officeDocument/2006/relationships/image" Target="../media/image2.jpeg"/><Relationship Id="rId24" Type="http://schemas.openxmlformats.org/officeDocument/2006/relationships/image" Target="../media/image2.jpeg"/><Relationship Id="rId25" Type="http://schemas.openxmlformats.org/officeDocument/2006/relationships/image" Target="../media/image2.jpeg"/><Relationship Id="rId26" Type="http://schemas.openxmlformats.org/officeDocument/2006/relationships/image" Target="../media/image2.jpeg"/><Relationship Id="rId27" Type="http://schemas.openxmlformats.org/officeDocument/2006/relationships/image" Target="../media/image2.jpeg"/><Relationship Id="rId28" Type="http://schemas.openxmlformats.org/officeDocument/2006/relationships/image" Target="../media/image2.jpeg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image" Target="../media/image2.jpeg"/><Relationship Id="rId3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ed=1&amp;text=&#1041;&#1083;&#1077;&#1079;%20&#1055;&#1072;&#1089;&#1082;&#1072;&#1083;&#1100;&amp;p=2&amp;img_url=coursphilosophie.free.fr%2Fimages%2Fphilosophes%2Fblaise_pascal.jpg&amp;rpt=simage" TargetMode="External"/><Relationship Id="rId3" Type="http://schemas.openxmlformats.org/officeDocument/2006/relationships/hyperlink" Target="http://images.yandex.ru/yandsearch?rpt=simage&amp;img_url=www.cs.cornell.edu%2Fgries%2Fbanquets%2Fiticse2002%2FWirth02.jpg&amp;text=&#1053;&#1080;&#1082;&#1086;&#1083;&#1072;&#1091;&#1089;%20&#1042;&#1080;&#1088;&#1090;&amp;p=0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0920" y="1125360"/>
            <a:ext cx="889308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Язык программирования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Turbo Pascal "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755640" y="1268280"/>
            <a:ext cx="7561440" cy="37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«Разделы описаний и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зделы операторов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 языке Turbo Pascal»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Раздел перемен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р описания переменны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ar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, b, c     : 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  : rea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где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ar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– зарезервированное слово для описания переменны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-  список переменных, в котором имена переменных разделяются запяты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teger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al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- названия типов перемен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Стандартные фун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QR(A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озведение в квадр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QRT(A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корень квадрат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BS(A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модуль числа или вы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IN(A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синус числа или вы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S(A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косинус числа или вы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RCTAN(A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арктангенс числа или вы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UND(A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округл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T(A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целая часть числа или вы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RAC(A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дробная часть числа или вы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ANDOM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случайное число из диапазона 0.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ANDOM(200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случайное число из диапазона 0..1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I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значение 3.14159265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DIV B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целая часть от де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MOD B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остаток от де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Ввод и вывод информаци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вод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скомых данных в языке Tur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ascal используются стандарт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цедуры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Rea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Readl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: Read (7,18); Read(3) - список 7, 18,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вод результатов программы в язы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Turbo Pascal осуществляется дву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ндартными процедурами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Writ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Writel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Оператор присваи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нтаксис оператора присваив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&lt;имя переменной&gt; </a:t>
            </a:r>
            <a:r>
              <a:rPr b="0" i="1" lang="ru-RU" sz="3200" spc="-1" strike="noStrike">
                <a:solidFill>
                  <a:srgbClr val="cc3300"/>
                </a:solidFill>
                <a:latin typeface="Arial"/>
              </a:rPr>
              <a:t>:=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&lt;выражение&gt;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ры: k := 7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i := sqr(k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n := k * i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Прим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грамма, вычисляющей произведение двух целых чис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Program p1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ar a,b,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: integer; Beg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WriteLn('Введите два целых числа через пробел'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adLn(a,b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:=a*b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WriteLn('Их произведение равно ', с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ReadLn 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3300"/>
                </a:solidFill>
                <a:uFillTx/>
                <a:latin typeface="Arial"/>
              </a:rPr>
              <a:t>Домашнее зад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исать на языке Turbo Pas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едующие формул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s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1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1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84360" y="836640"/>
            <a:ext cx="7596000" cy="424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«Решение задач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 помощью среды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ограммировани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urbo Pascal»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9528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жде чем написать программу, уясните себе смысл зада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ова цель программ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ие данные она требу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куда поступают данны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ие результаты должна выдавать программ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Решение 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Поймите задач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для этог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учите данны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учите неизвестны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ределите, достаточно ли данных для реш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верьте, не противоречивы ли о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Составьте пла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Обратите внимание на следующие момен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ель решения задач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спомните, встречалась ли вам уже такая задач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умайте, не знаете ли вы близкой задачи, алгоритмом решения которой можно воспользовать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становите можете ли вы решить часть зада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Выполните пла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ледуйте своему плану решения зада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веряйте правильность каждого ша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Проанализируйте реш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ределите, все ли данные вы использовал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верьте правильность реш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верьте вводимые данные на обоснованность и правдоподоб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ведите результаты в удобной для чтения фор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866160" y="689040"/>
            <a:ext cx="7806240" cy="4999680"/>
            <a:chOff x="866160" y="689040"/>
            <a:chExt cx="7806240" cy="4999680"/>
          </a:xfrm>
        </p:grpSpPr>
        <p:grpSp>
          <p:nvGrpSpPr>
            <p:cNvPr id="44" name=""/>
            <p:cNvGrpSpPr/>
            <p:nvPr/>
          </p:nvGrpSpPr>
          <p:grpSpPr>
            <a:xfrm>
              <a:off x="866160" y="689040"/>
              <a:ext cx="7806240" cy="4999680"/>
              <a:chOff x="866160" y="689040"/>
              <a:chExt cx="7806240" cy="4999680"/>
            </a:xfrm>
          </p:grpSpPr>
          <p:grpSp>
            <p:nvGrpSpPr>
              <p:cNvPr id="45" name=""/>
              <p:cNvGrpSpPr/>
              <p:nvPr/>
            </p:nvGrpSpPr>
            <p:grpSpPr>
              <a:xfrm>
                <a:off x="866160" y="689040"/>
                <a:ext cx="7806240" cy="4645440"/>
                <a:chOff x="866160" y="689040"/>
                <a:chExt cx="7806240" cy="464544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2338920" y="1077840"/>
                  <a:ext cx="6333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2338920" y="2431440"/>
                  <a:ext cx="6333480" cy="2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2338920" y="3786840"/>
                  <a:ext cx="633348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2338920" y="5142240"/>
                  <a:ext cx="6333480" cy="4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 txBox="1"/>
                <p:nvPr/>
              </p:nvSpPr>
              <p:spPr>
                <a:xfrm>
                  <a:off x="866160" y="689040"/>
                  <a:ext cx="1179720" cy="773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12600">
                        <a:solidFill>
                          <a:srgbClr val="3333cc"/>
                        </a:solidFill>
                        <a:miter/>
                      </a:ln>
                      <a:solidFill>
                        <a:srgbClr val="b2b2b2">
                          <a:alpha val="50000"/>
                        </a:srgbClr>
                      </a:solidFill>
                      <a:effectLst>
                        <a:outerShdw dist="40186" dir="1096358" blurRad="0" rotWithShape="0">
                          <a:srgbClr val="9999ff"/>
                        </a:outerShdw>
                      </a:effectLst>
                      <a:latin typeface="Arial"/>
                    </a:rPr>
                    <a:t>1950</a:t>
                  </a:r>
                  <a:endParaRPr b="0" lang="en-US" sz="1800" spc="1" strike="noStrike">
                    <a:ln w="12600">
                      <a:solidFill>
                        <a:srgbClr val="3333cc"/>
                      </a:solidFill>
                      <a:miter/>
                    </a:ln>
                    <a:solidFill>
                      <a:srgbClr val="b2b2b2">
                        <a:alpha val="50000"/>
                      </a:srgbClr>
                    </a:solidFill>
                    <a:effectLst>
                      <a:outerShdw dist="40186" dir="1096358" blurRad="0" rotWithShape="0">
                        <a:srgbClr val="9999ff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  <p:sp>
              <p:nvSpPr>
                <p:cNvPr id="51" name=""/>
                <p:cNvSpPr txBox="1"/>
                <p:nvPr/>
              </p:nvSpPr>
              <p:spPr>
                <a:xfrm>
                  <a:off x="866160" y="2044440"/>
                  <a:ext cx="1179720" cy="7736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12600">
                        <a:solidFill>
                          <a:srgbClr val="3333cc"/>
                        </a:solidFill>
                        <a:miter/>
                      </a:ln>
                      <a:solidFill>
                        <a:srgbClr val="b2b2b2">
                          <a:alpha val="50000"/>
                        </a:srgbClr>
                      </a:solidFill>
                      <a:effectLst>
                        <a:outerShdw dist="40186" dir="1096358" blurRad="0" rotWithShape="0">
                          <a:srgbClr val="9999ff"/>
                        </a:outerShdw>
                      </a:effectLst>
                      <a:latin typeface="Arial"/>
                    </a:rPr>
                    <a:t>1960</a:t>
                  </a:r>
                  <a:endParaRPr b="0" lang="en-US" sz="1800" spc="1" strike="noStrike">
                    <a:ln w="12600">
                      <a:solidFill>
                        <a:srgbClr val="3333cc"/>
                      </a:solidFill>
                      <a:miter/>
                    </a:ln>
                    <a:solidFill>
                      <a:srgbClr val="b2b2b2">
                        <a:alpha val="50000"/>
                      </a:srgbClr>
                    </a:solidFill>
                    <a:effectLst>
                      <a:outerShdw dist="40186" dir="1096358" blurRad="0" rotWithShape="0">
                        <a:srgbClr val="9999ff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  <p:sp>
              <p:nvSpPr>
                <p:cNvPr id="52" name=""/>
                <p:cNvSpPr txBox="1"/>
                <p:nvPr/>
              </p:nvSpPr>
              <p:spPr>
                <a:xfrm>
                  <a:off x="866160" y="3207600"/>
                  <a:ext cx="1179720" cy="7736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12600">
                        <a:solidFill>
                          <a:srgbClr val="3333cc"/>
                        </a:solidFill>
                        <a:miter/>
                      </a:ln>
                      <a:solidFill>
                        <a:srgbClr val="b2b2b2">
                          <a:alpha val="50000"/>
                        </a:srgbClr>
                      </a:solidFill>
                      <a:effectLst>
                        <a:outerShdw dist="40186" dir="1096358" blurRad="0" rotWithShape="0">
                          <a:srgbClr val="9999ff"/>
                        </a:outerShdw>
                      </a:effectLst>
                      <a:latin typeface="Arial"/>
                    </a:rPr>
                    <a:t>1970</a:t>
                  </a:r>
                  <a:endParaRPr b="0" lang="en-US" sz="1800" spc="1" strike="noStrike">
                    <a:ln w="12600">
                      <a:solidFill>
                        <a:srgbClr val="3333cc"/>
                      </a:solidFill>
                      <a:miter/>
                    </a:ln>
                    <a:solidFill>
                      <a:srgbClr val="b2b2b2">
                        <a:alpha val="50000"/>
                      </a:srgbClr>
                    </a:solidFill>
                    <a:effectLst>
                      <a:outerShdw dist="40186" dir="1096358" blurRad="0" rotWithShape="0">
                        <a:srgbClr val="9999ff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  <p:sp>
              <p:nvSpPr>
                <p:cNvPr id="53" name=""/>
                <p:cNvSpPr txBox="1"/>
                <p:nvPr/>
              </p:nvSpPr>
              <p:spPr>
                <a:xfrm>
                  <a:off x="866160" y="4561200"/>
                  <a:ext cx="1179720" cy="773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12600">
                        <a:solidFill>
                          <a:srgbClr val="3333cc"/>
                        </a:solidFill>
                        <a:miter/>
                      </a:ln>
                      <a:solidFill>
                        <a:srgbClr val="b2b2b2">
                          <a:alpha val="50000"/>
                        </a:srgbClr>
                      </a:solidFill>
                      <a:effectLst>
                        <a:outerShdw dist="40186" dir="1096358" blurRad="0" rotWithShape="0">
                          <a:srgbClr val="9999ff"/>
                        </a:outerShdw>
                      </a:effectLst>
                      <a:latin typeface="Arial"/>
                    </a:rPr>
                    <a:t>1980</a:t>
                  </a:r>
                  <a:endParaRPr b="0" lang="en-US" sz="1800" spc="1" strike="noStrike">
                    <a:ln w="12600">
                      <a:solidFill>
                        <a:srgbClr val="3333cc"/>
                      </a:solidFill>
                      <a:miter/>
                    </a:ln>
                    <a:solidFill>
                      <a:srgbClr val="b2b2b2">
                        <a:alpha val="50000"/>
                      </a:srgbClr>
                    </a:solidFill>
                    <a:effectLst>
                      <a:outerShdw dist="40186" dir="1096358" blurRad="0" rotWithShape="0">
                        <a:srgbClr val="9999ff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54" name=""/>
              <p:cNvSpPr txBox="1"/>
              <p:nvPr/>
            </p:nvSpPr>
            <p:spPr>
              <a:xfrm>
                <a:off x="3959280" y="1148760"/>
                <a:ext cx="1210680" cy="3362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8000"/>
                      </a:solidFill>
                      <a:miter/>
                    </a:ln>
                    <a:blipFill rotWithShape="0">
                      <a:blip r:embed="rId2"/>
                      <a:srcRect/>
                      <a:tile tx="0" ty="0" sx="100000" sy="100000" algn="ctr"/>
                    </a:blipFill>
                    <a:effectLst>
                      <a:outerShdw dist="153753" dir="2700000" blurRad="0" rotWithShape="0">
                        <a:srgbClr val="c7dfd3">
                          <a:alpha val="80000"/>
                        </a:srgbClr>
                      </a:outerShdw>
                    </a:effectLst>
                    <a:latin typeface="Times New Roman"/>
                  </a:rPr>
                  <a:t>FORTRAN</a:t>
                </a:r>
                <a:endPara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3"/>
                    <a:srcRect/>
                    <a:tile tx="0" ty="0" sx="100000" sy="100000" algn="ctr"/>
                  </a:blipFill>
                  <a:effectLst>
                    <a:outerShdw dist="153753" dir="2700000" blurRad="0" rotWithShape="0">
                      <a:srgbClr val="c7dfd3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55" name=""/>
              <p:cNvSpPr txBox="1"/>
              <p:nvPr/>
            </p:nvSpPr>
            <p:spPr>
              <a:xfrm>
                <a:off x="2928240" y="2493720"/>
                <a:ext cx="1030680" cy="3362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8000"/>
                      </a:solidFill>
                      <a:miter/>
                    </a:ln>
                    <a:blipFill rotWithShape="0">
                      <a:blip r:embed="rId4"/>
                      <a:srcRect/>
                      <a:tile tx="0" ty="0" sx="100000" sy="100000" algn="ctr"/>
                    </a:blipFill>
                    <a:effectLst>
                      <a:outerShdw dist="153753" dir="2700000" blurRad="0" rotWithShape="0">
                        <a:srgbClr val="c7dfd3">
                          <a:alpha val="80000"/>
                        </a:srgbClr>
                      </a:outerShdw>
                    </a:effectLst>
                    <a:latin typeface="Times New Roman"/>
                  </a:rPr>
                  <a:t>Algol 60</a:t>
                </a:r>
                <a:endPara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5"/>
                    <a:srcRect/>
                    <a:tile tx="0" ty="0" sx="100000" sy="100000" algn="ctr"/>
                  </a:blipFill>
                  <a:effectLst>
                    <a:outerShdw dist="153753" dir="2700000" blurRad="0" rotWithShape="0">
                      <a:srgbClr val="c7dfd3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56" name=""/>
              <p:cNvSpPr txBox="1"/>
              <p:nvPr/>
            </p:nvSpPr>
            <p:spPr>
              <a:xfrm>
                <a:off x="4401000" y="2493720"/>
                <a:ext cx="588960" cy="3362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8000"/>
                      </a:solidFill>
                      <a:miter/>
                    </a:ln>
                    <a:blipFill rotWithShape="0">
                      <a:blip r:embed="rId6"/>
                      <a:srcRect/>
                      <a:tile tx="0" ty="0" sx="100000" sy="100000" algn="ctr"/>
                    </a:blipFill>
                    <a:effectLst>
                      <a:outerShdw dist="153753" dir="2700000" blurRad="0" rotWithShape="0">
                        <a:srgbClr val="c7dfd3">
                          <a:alpha val="80000"/>
                        </a:srgbClr>
                      </a:outerShdw>
                    </a:effectLst>
                    <a:latin typeface="Times New Roman"/>
                  </a:rPr>
                  <a:t>PL\I</a:t>
                </a:r>
                <a:endPara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7"/>
                    <a:srcRect/>
                    <a:tile tx="0" ty="0" sx="100000" sy="100000" algn="ctr"/>
                  </a:blipFill>
                  <a:effectLst>
                    <a:outerShdw dist="153753" dir="2700000" blurRad="0" rotWithShape="0">
                      <a:srgbClr val="c7dfd3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57" name=""/>
              <p:cNvSpPr txBox="1"/>
              <p:nvPr/>
            </p:nvSpPr>
            <p:spPr>
              <a:xfrm>
                <a:off x="5284800" y="2493720"/>
                <a:ext cx="768960" cy="3362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8000"/>
                      </a:solidFill>
                      <a:miter/>
                    </a:ln>
                    <a:blipFill rotWithShape="0">
                      <a:blip r:embed="rId8"/>
                      <a:srcRect/>
                      <a:tile tx="0" ty="0" sx="100000" sy="100000" algn="ctr"/>
                    </a:blipFill>
                    <a:effectLst>
                      <a:outerShdw dist="153753" dir="2700000" blurRad="0" rotWithShape="0">
                        <a:srgbClr val="c7dfd3">
                          <a:alpha val="80000"/>
                        </a:srgbClr>
                      </a:outerShdw>
                    </a:effectLst>
                    <a:latin typeface="Times New Roman"/>
                  </a:rPr>
                  <a:t>Cobol</a:t>
                </a:r>
                <a:endPara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9"/>
                    <a:srcRect/>
                    <a:tile tx="0" ty="0" sx="100000" sy="100000" algn="ctr"/>
                  </a:blipFill>
                  <a:effectLst>
                    <a:outerShdw dist="153753" dir="2700000" blurRad="0" rotWithShape="0">
                      <a:srgbClr val="c7dfd3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58" name=""/>
              <p:cNvSpPr txBox="1"/>
              <p:nvPr/>
            </p:nvSpPr>
            <p:spPr>
              <a:xfrm>
                <a:off x="6315840" y="2493720"/>
                <a:ext cx="736200" cy="3362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8000"/>
                      </a:solidFill>
                      <a:miter/>
                    </a:ln>
                    <a:blipFill rotWithShape="0">
                      <a:blip r:embed="rId10"/>
                      <a:srcRect/>
                      <a:tile tx="0" ty="0" sx="100000" sy="100000" algn="ctr"/>
                    </a:blipFill>
                    <a:effectLst>
                      <a:outerShdw dist="153753" dir="2700000" blurRad="0" rotWithShape="0">
                        <a:srgbClr val="c7dfd3">
                          <a:alpha val="80000"/>
                        </a:srgbClr>
                      </a:outerShdw>
                    </a:effectLst>
                    <a:latin typeface="Times New Roman"/>
                  </a:rPr>
                  <a:t>Lisp</a:t>
                </a:r>
                <a:endPara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11"/>
                    <a:srcRect/>
                    <a:tile tx="0" ty="0" sx="100000" sy="100000" algn="ctr"/>
                  </a:blipFill>
                  <a:effectLst>
                    <a:outerShdw dist="153753" dir="2700000" blurRad="0" rotWithShape="0">
                      <a:srgbClr val="c7dfd3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59" name=""/>
              <p:cNvSpPr txBox="1"/>
              <p:nvPr/>
            </p:nvSpPr>
            <p:spPr>
              <a:xfrm>
                <a:off x="7199640" y="2998440"/>
                <a:ext cx="1210680" cy="3358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8000"/>
                      </a:solidFill>
                      <a:miter/>
                    </a:ln>
                    <a:blipFill rotWithShape="0">
                      <a:blip r:embed="rId12"/>
                      <a:srcRect/>
                      <a:tile tx="0" ty="0" sx="100000" sy="100000" algn="ctr"/>
                    </a:blipFill>
                    <a:effectLst>
                      <a:outerShdw dist="153753" dir="2700000" blurRad="0" rotWithShape="0">
                        <a:srgbClr val="c7dfd3">
                          <a:alpha val="80000"/>
                        </a:srgbClr>
                      </a:outerShdw>
                    </a:effectLst>
                    <a:latin typeface="Times New Roman"/>
                  </a:rPr>
                  <a:t>BASIC</a:t>
                </a:r>
                <a:endPara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13"/>
                    <a:srcRect/>
                    <a:tile tx="0" ty="0" sx="100000" sy="100000" algn="ctr"/>
                  </a:blipFill>
                  <a:effectLst>
                    <a:outerShdw dist="153753" dir="2700000" blurRad="0" rotWithShape="0">
                      <a:srgbClr val="c7dfd3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60" name=""/>
              <p:cNvSpPr txBox="1"/>
              <p:nvPr/>
            </p:nvSpPr>
            <p:spPr>
              <a:xfrm>
                <a:off x="7199640" y="4007160"/>
                <a:ext cx="1210680" cy="3362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8000"/>
                      </a:solidFill>
                      <a:miter/>
                    </a:ln>
                    <a:blipFill rotWithShape="0">
                      <a:blip r:embed="rId14"/>
                      <a:srcRect/>
                      <a:tile tx="0" ty="0" sx="100000" sy="100000" algn="ctr"/>
                    </a:blipFill>
                    <a:effectLst>
                      <a:outerShdw dist="153753" dir="2700000" blurRad="0" rotWithShape="0">
                        <a:srgbClr val="c7dfd3">
                          <a:alpha val="80000"/>
                        </a:srgbClr>
                      </a:outerShdw>
                    </a:effectLst>
                    <a:latin typeface="Times New Roman"/>
                  </a:rPr>
                  <a:t>Prolog</a:t>
                </a:r>
                <a:endPara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15"/>
                    <a:srcRect/>
                    <a:tile tx="0" ty="0" sx="100000" sy="100000" algn="ctr"/>
                  </a:blipFill>
                  <a:effectLst>
                    <a:outerShdw dist="153753" dir="2700000" blurRad="0" rotWithShape="0">
                      <a:srgbClr val="c7dfd3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61" name=""/>
              <p:cNvSpPr txBox="1"/>
              <p:nvPr/>
            </p:nvSpPr>
            <p:spPr>
              <a:xfrm>
                <a:off x="6021360" y="5352480"/>
                <a:ext cx="1210680" cy="3362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8000"/>
                      </a:solidFill>
                      <a:miter/>
                    </a:ln>
                    <a:blipFill rotWithShape="0">
                      <a:blip r:embed="rId16"/>
                      <a:srcRect/>
                      <a:tile tx="0" ty="0" sx="100000" sy="100000" algn="ctr"/>
                    </a:blipFill>
                    <a:effectLst>
                      <a:outerShdw dist="153753" dir="2700000" blurRad="0" rotWithShape="0">
                        <a:srgbClr val="c7dfd3">
                          <a:alpha val="80000"/>
                        </a:srgbClr>
                      </a:outerShdw>
                    </a:effectLst>
                    <a:latin typeface="Times New Roman"/>
                  </a:rPr>
                  <a:t>Miranda</a:t>
                </a:r>
                <a:endPara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17"/>
                    <a:srcRect/>
                    <a:tile tx="0" ty="0" sx="100000" sy="100000" algn="ctr"/>
                  </a:blipFill>
                  <a:effectLst>
                    <a:outerShdw dist="153753" dir="2700000" blurRad="0" rotWithShape="0">
                      <a:srgbClr val="c7dfd3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62" name=""/>
              <p:cNvSpPr txBox="1"/>
              <p:nvPr/>
            </p:nvSpPr>
            <p:spPr>
              <a:xfrm>
                <a:off x="2338920" y="2998440"/>
                <a:ext cx="768960" cy="3358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8000"/>
                      </a:solidFill>
                      <a:miter/>
                    </a:ln>
                    <a:blipFill rotWithShape="0">
                      <a:blip r:embed="rId18"/>
                      <a:srcRect/>
                      <a:tile tx="0" ty="0" sx="100000" sy="100000" algn="ctr"/>
                    </a:blipFill>
                    <a:effectLst>
                      <a:outerShdw dist="153753" dir="2700000" blurRad="0" rotWithShape="0">
                        <a:srgbClr val="c7dfd3">
                          <a:alpha val="80000"/>
                        </a:srgbClr>
                      </a:outerShdw>
                    </a:effectLst>
                    <a:latin typeface="Times New Roman"/>
                  </a:rPr>
                  <a:t>Simula</a:t>
                </a:r>
                <a:endPara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19"/>
                    <a:srcRect/>
                    <a:tile tx="0" ty="0" sx="100000" sy="100000" algn="ctr"/>
                  </a:blipFill>
                  <a:effectLst>
                    <a:outerShdw dist="153753" dir="2700000" blurRad="0" rotWithShape="0">
                      <a:srgbClr val="c7dfd3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63" name=""/>
              <p:cNvSpPr txBox="1"/>
              <p:nvPr/>
            </p:nvSpPr>
            <p:spPr>
              <a:xfrm>
                <a:off x="3222720" y="3839040"/>
                <a:ext cx="1211040" cy="3362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8000"/>
                      </a:solidFill>
                      <a:miter/>
                    </a:ln>
                    <a:blipFill rotWithShape="0">
                      <a:blip r:embed="rId20"/>
                      <a:srcRect/>
                      <a:tile tx="0" ty="0" sx="100000" sy="100000" algn="ctr"/>
                    </a:blipFill>
                    <a:effectLst>
                      <a:outerShdw dist="153753" dir="2700000" blurRad="0" rotWithShape="0">
                        <a:srgbClr val="c7dfd3">
                          <a:alpha val="80000"/>
                        </a:srgbClr>
                      </a:outerShdw>
                    </a:effectLst>
                    <a:latin typeface="Times New Roman"/>
                  </a:rPr>
                  <a:t>Pascal</a:t>
                </a:r>
                <a:endPara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21"/>
                    <a:srcRect/>
                    <a:tile tx="0" ty="0" sx="100000" sy="100000" algn="ctr"/>
                  </a:blipFill>
                  <a:effectLst>
                    <a:outerShdw dist="153753" dir="2700000" blurRad="0" rotWithShape="0">
                      <a:srgbClr val="c7dfd3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64" name=""/>
              <p:cNvSpPr txBox="1"/>
              <p:nvPr/>
            </p:nvSpPr>
            <p:spPr>
              <a:xfrm>
                <a:off x="3222720" y="3334680"/>
                <a:ext cx="1031040" cy="3362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8000"/>
                      </a:solidFill>
                      <a:miter/>
                    </a:ln>
                    <a:blipFill rotWithShape="0">
                      <a:blip r:embed="rId22"/>
                      <a:srcRect/>
                      <a:tile tx="0" ty="0" sx="100000" sy="100000" algn="ctr"/>
                    </a:blipFill>
                    <a:effectLst>
                      <a:outerShdw dist="153753" dir="2700000" blurRad="0" rotWithShape="0">
                        <a:srgbClr val="c7dfd3">
                          <a:alpha val="80000"/>
                        </a:srgbClr>
                      </a:outerShdw>
                    </a:effectLst>
                    <a:latin typeface="Times New Roman"/>
                  </a:rPr>
                  <a:t>Algol 68</a:t>
                </a:r>
                <a:endPara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23"/>
                    <a:srcRect/>
                    <a:tile tx="0" ty="0" sx="100000" sy="100000" algn="ctr"/>
                  </a:blipFill>
                  <a:effectLst>
                    <a:outerShdw dist="153753" dir="2700000" blurRad="0" rotWithShape="0">
                      <a:srgbClr val="c7dfd3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65" name=""/>
              <p:cNvSpPr txBox="1"/>
              <p:nvPr/>
            </p:nvSpPr>
            <p:spPr>
              <a:xfrm>
                <a:off x="2486520" y="4343760"/>
                <a:ext cx="768960" cy="3358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8000"/>
                      </a:solidFill>
                      <a:miter/>
                    </a:ln>
                    <a:blipFill rotWithShape="0">
                      <a:blip r:embed="rId24"/>
                      <a:srcRect/>
                      <a:tile tx="0" ty="0" sx="100000" sy="100000" algn="ctr"/>
                    </a:blipFill>
                    <a:effectLst>
                      <a:outerShdw dist="153753" dir="2700000" blurRad="0" rotWithShape="0">
                        <a:srgbClr val="c7dfd3">
                          <a:alpha val="80000"/>
                        </a:srgbClr>
                      </a:outerShdw>
                    </a:effectLst>
                    <a:latin typeface="Times New Roman"/>
                  </a:rPr>
                  <a:t>Smalltalk</a:t>
                </a:r>
                <a:endPara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25"/>
                    <a:srcRect/>
                    <a:tile tx="0" ty="0" sx="100000" sy="100000" algn="ctr"/>
                  </a:blipFill>
                  <a:effectLst>
                    <a:outerShdw dist="153753" dir="2700000" blurRad="0" rotWithShape="0">
                      <a:srgbClr val="c7dfd3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66" name=""/>
              <p:cNvSpPr txBox="1"/>
              <p:nvPr/>
            </p:nvSpPr>
            <p:spPr>
              <a:xfrm>
                <a:off x="3664800" y="4511520"/>
                <a:ext cx="768960" cy="3362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8000"/>
                      </a:solidFill>
                      <a:miter/>
                    </a:ln>
                    <a:blipFill rotWithShape="0">
                      <a:blip r:embed="rId26"/>
                      <a:srcRect/>
                      <a:tile tx="0" ty="0" sx="100000" sy="100000" algn="ctr"/>
                    </a:blipFill>
                    <a:effectLst>
                      <a:outerShdw dist="153753" dir="2700000" blurRad="0" rotWithShape="0">
                        <a:srgbClr val="c7dfd3">
                          <a:alpha val="80000"/>
                        </a:srgbClr>
                      </a:outerShdw>
                    </a:effectLst>
                    <a:latin typeface="Times New Roman"/>
                  </a:rPr>
                  <a:t>Ada</a:t>
                </a:r>
                <a:endPara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27"/>
                    <a:srcRect/>
                    <a:tile tx="0" ty="0" sx="100000" sy="100000" algn="ctr"/>
                  </a:blipFill>
                  <a:effectLst>
                    <a:outerShdw dist="153753" dir="2700000" blurRad="0" rotWithShape="0">
                      <a:srgbClr val="c7dfd3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67" name=""/>
              <p:cNvSpPr txBox="1"/>
              <p:nvPr/>
            </p:nvSpPr>
            <p:spPr>
              <a:xfrm>
                <a:off x="3812040" y="5352480"/>
                <a:ext cx="588960" cy="3362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8000"/>
                      </a:solidFill>
                      <a:miter/>
                    </a:ln>
                    <a:blipFill rotWithShape="0">
                      <a:blip r:embed="rId28"/>
                      <a:srcRect/>
                      <a:tile tx="0" ty="0" sx="100000" sy="100000" algn="ctr"/>
                    </a:blipFill>
                    <a:effectLst>
                      <a:outerShdw dist="153753" dir="2700000" blurRad="0" rotWithShape="0">
                        <a:srgbClr val="c7dfd3">
                          <a:alpha val="80000"/>
                        </a:srgbClr>
                      </a:outerShdw>
                    </a:effectLst>
                    <a:latin typeface="Times New Roman"/>
                  </a:rPr>
                  <a:t>C+ +</a:t>
                </a:r>
                <a:endPara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29"/>
                    <a:srcRect/>
                    <a:tile tx="0" ty="0" sx="100000" sy="100000" algn="ctr"/>
                  </a:blipFill>
                  <a:effectLst>
                    <a:outerShdw dist="153753" dir="2700000" blurRad="0" rotWithShape="0">
                      <a:srgbClr val="c7dfd3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>
                <a:off x="3664440" y="1485000"/>
                <a:ext cx="736200" cy="100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401000" y="1485000"/>
                <a:ext cx="441720" cy="100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075480" y="2830320"/>
                <a:ext cx="1325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990320" y="2662200"/>
                <a:ext cx="294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610680" y="2830320"/>
                <a:ext cx="0" cy="252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>
                <a:off x="4401000" y="4175640"/>
                <a:ext cx="1031040" cy="117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3812040" y="4175640"/>
              <a:ext cx="294480" cy="33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633400" y="3334680"/>
              <a:ext cx="0" cy="100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75480" y="4175640"/>
              <a:ext cx="883440" cy="33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3059280" y="2852640"/>
            <a:ext cx="360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59280" y="2852640"/>
            <a:ext cx="2174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2987280" y="3357720"/>
            <a:ext cx="7164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292720" y="3789360"/>
            <a:ext cx="3049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0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1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59280" y="2852640"/>
            <a:ext cx="2233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2771280" y="2852640"/>
            <a:ext cx="287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шим </a:t>
            </a: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самостоятельн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следующие задач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Организовать ввод радиуса. Определить длину окруж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Напишите программу, которая запрашивает четыре целых числа и выдает на экра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мму чисе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мму квадратов чисе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реднее арифметическое чисе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мму парных произвед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Вычислите площадь треугольника по его сторон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Найдите среднее арифметическое округленных значений четырех чис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3300"/>
                </a:solidFill>
                <a:uFillTx/>
                <a:latin typeface="Arial"/>
              </a:rPr>
              <a:t>Домашнее задание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ить и записать на языке Turbo Pascal следующие 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Известно, что a=1.35, b=8, c=4, d=2.88 и a=15°, b=25° 40¢, g=120°. Определи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ъема параллелепипеда со сторонами a,b,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лощади треугольника со сторонами b, c и углом между ними 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лощади параллелограмма со сторонами a, d и углом между ними 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ины третьей стороны треугольника с известными двумя b, d и углом между ними 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ины гипотенузы прямоугольного треугольника с катетами c, 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Найдите сумму синуса дробной части отношения двух чисел и косинуса целой части этого отнош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07640" y="-360"/>
            <a:ext cx="5637240" cy="7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пользованные материа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O PASCA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Практикум», С.А. Немлюгин, СПб.:Питер, 2002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O PASCA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, С.А. Немлюгин, СПб.:Питер, 2002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ирование на языке Паскаль: задачник / под ред.Усковой О.Ф. – СПб, Питер, 2003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mages.yandex.ru/yandsearch?ed=1&amp;text=%D0%91%D0%BB%D0%B5%D0%B7%20%D0%9F%D0%B0%D1%81%D0%BA%D0%B0%D0%BB%D1%8C&amp;p=2&amp;img_url=coursphilosophie.free.fr%2Fimages%2Fphilosophes%2Fblaise_pascal.jpg&amp;rpt=s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images.yandex.ru/yandsearch?rpt=simage&amp;img_url=www.cs.cornell.edu%2Fgries%2Fbanquets%2Fiticse2002%2FWirth02.jpg&amp;text=%D0%9D%D0%B8%D0%BA%D0%BE%D0%BB%D0%B0%D1%83%D1%81%20%D0%92%D0%B8%D1%80%D1%82&amp;p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0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Блез Паска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68360" y="134136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4859280" y="1341360"/>
            <a:ext cx="3827520" cy="45658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356000" y="260280"/>
            <a:ext cx="433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Николаус Вир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Основные элемент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24000" y="1341360"/>
            <a:ext cx="882000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еременна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 это ячейка (или несколько ячеек) оперативной памяти компьютера. Такой ячейке присвоено определенное имя, ее содержимое может изменяться в ходе выполнения програм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Константн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фиксированное знач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Оператор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задают действия, которые должна выполнять програм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Основные симво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50920" y="1125360"/>
          <a:ext cx="8424720" cy="4942080"/>
        </p:xfrm>
        <a:graphic>
          <a:graphicData uri="http://schemas.openxmlformats.org/drawingml/2006/table">
            <a:tbl>
              <a:tblPr/>
              <a:tblGrid>
                <a:gridCol w="2332080"/>
                <a:gridCol w="609264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 латинских строчных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 латинских прописных бук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 C D E F G H I J K L M N O P Q R S T U V W X Y 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 c d e f g h i j k l m n o p q r s t u v w x y 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черкива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циф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1 2 3 4 5 6 7 8 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ки операц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  -   *   /   =   &lt;&gt;   &lt;   &gt;   &lt;=   &gt;=   :=  @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граничител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  ,   '   (   )   [   ]   (.  .)   {  }  (*  *)   ..   :   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ецификатор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^  #  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Зарезервированные слов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57200" y="1600200"/>
          <a:ext cx="8435880" cy="4740120"/>
        </p:xfrm>
        <a:graphic>
          <a:graphicData uri="http://schemas.openxmlformats.org/drawingml/2006/table">
            <a:tbl>
              <a:tblPr/>
              <a:tblGrid>
                <a:gridCol w="2109960"/>
                <a:gridCol w="2109600"/>
                <a:gridCol w="2106720"/>
                <a:gridCol w="2109600"/>
              </a:tblGrid>
              <a:tr h="474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solute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ray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mbl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k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to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n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tructo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pwnto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rna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tio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to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emen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lin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fac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rup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e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a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c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cke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vat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r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ea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ing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t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rtual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o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 rot="5400000">
            <a:off x="1395000" y="1881000"/>
            <a:ext cx="6858000" cy="3095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i="1" lang="en-US" sz="1800" spc="1" strike="noStrike">
              <a:ln w="28440">
                <a:solidFill>
                  <a:srgbClr val="8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1197000"/>
            <a:ext cx="9144000" cy="685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333399"/>
                </a:solidFill>
                <a:latin typeface="Impact"/>
              </a:rPr>
              <a:t>программа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333399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333399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Структура программ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11280" y="1268280"/>
          <a:ext cx="3816000" cy="5329080"/>
        </p:xfrm>
        <a:graphic>
          <a:graphicData uri="http://schemas.openxmlformats.org/drawingml/2006/table">
            <a:tbl>
              <a:tblPr/>
              <a:tblGrid>
                <a:gridCol w="3816000"/>
              </a:tblGrid>
              <a:tr h="78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л описа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л оператор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d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3300"/>
                </a:solidFill>
                <a:uFillTx/>
                <a:latin typeface="Arial"/>
              </a:rPr>
              <a:t>Домашнее зад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на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такое программ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уктура программ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новные элементы языка Паска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13:36:56Z</dcterms:created>
  <dc:creator>kylakova</dc:creator>
  <dc:description/>
  <dc:language>en-US</dc:language>
  <cp:lastModifiedBy>kylakova</cp:lastModifiedBy>
  <dcterms:modified xsi:type="dcterms:W3CDTF">2011-03-31T11:04:06Z</dcterms:modified>
  <cp:revision>8</cp:revision>
  <dc:subject/>
  <dc:title>Слайд 1</dc:title>
</cp:coreProperties>
</file>